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D072B-6E58-4CD3-9ED3-F0D55CCA5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04FD7-93D3-422B-9D69-D08D8BB11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52F55-66AC-4D9B-BD55-976DE6151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A1D8A-7C62-4FC8-A660-D731C992A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B49CB-1C38-4EB0-B7A1-8A9734FDD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A17F7-7315-438F-89EF-1F3B1FC45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139A6-FD43-4DAC-9C69-D60B92E07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BD211-D631-422C-8AA3-B77323428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4C499-88DA-4D02-AB37-96936B457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C0F95-0E36-47FB-ABBF-13EF322B9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22787-C0FF-4BC4-AEEE-B1B832BD7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49C7D-1C79-4D4C-8D40-9A8121896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8F5B3-8029-4CBD-8D6C-4EC07FC73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092AA-B810-42DD-B90E-E6C837D49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233A4-57EC-4987-9BE4-1E1D80C2D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B6465-1DAB-43FC-8615-165A85E25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E5C79-9674-4682-AA0E-B6979C79C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83740-78C3-4B28-B74D-6361BDAF14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5AE734-A9F4-4A0A-84A6-AE5C95B52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B4114F-1F9E-4156-A5DD-3F7F85B51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4ABE3-6842-401A-8BF5-93A3545BC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BE0CCF-1573-4220-946B-22663448A0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DE07F-63F7-4927-9C2E-9B9BD10D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A4FEE-17B1-4C76-B084-9E68D4231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453B4-3771-44F6-B9EB-39D1DF1A1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B1814-13BA-4A85-B878-D852EE304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DF800-DB64-4D38-A9DF-54F374FC2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7AE16-1143-4F99-A866-81CEBD416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70240A-B643-41EB-A46A-9050172120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C22790-A59E-4790-8006-23C4E2DA5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7BB262-6DFF-46D9-A5D5-EECE002470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E2B796-86D7-458A-BA86-5AA3E17BC6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71807-ED03-4296-9451-008BD2466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B2A3D-8641-4D89-BB52-AFC687238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3D2E52-936E-4EBC-B7B1-BC279E39B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F1B7F-5FEE-444B-8397-425564DF48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CAECD-B22C-410F-BB32-0852FD644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03C15-B53B-4419-AF9D-D29582507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1B5D6-663F-4CC0-9B07-3A30BE462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630EC-856E-413C-8727-F6AFD7CD8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79E454-DAA4-414D-9244-63874970E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217016-13FD-4DE8-B130-6D41122C7A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FC2605-8231-482E-AEA2-7812400408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B55728-1ED5-4564-A86F-AEACC4D21D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2CB03-8C39-4177-9AFA-EA1599DDE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A71B93-90A9-4C55-BB42-54370FA6A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B8D900-7208-40DF-A3F9-89D738910E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DC356E-9D26-400A-9791-BFECF47018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782A4-C593-4016-A81C-C545E541DF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FBDE85-535C-4AA5-92C0-811B847112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954DA-BB15-4360-BE4F-8E8B354ED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EF4B5-E8FF-4672-BF72-BE8241A5D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25DFB-4914-439B-9DCB-9A60200C7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7BE5EA-14CF-4E81-9E70-5634C9FF85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671B17-3657-4FAE-AEE6-DA9E7B46A5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F0C44-A5CB-45DB-A988-209B10B7B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61A277-2694-4F7B-B7E7-E1ACCAC1DA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009B08-CF9D-4200-95BB-BC5DF9F4EC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4232A6-4B2C-45AF-B3DA-C89F7DAE7B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4D40C5-163E-4407-B00B-D1371019B5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840ECE-0C7E-4D51-9833-BE257F6EC9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DB8DF2-896E-407F-8112-DD26B7D72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F7A4DB-3A3F-4F24-853A-56C93D598B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9DC17-FF8F-4FB9-B666-52E9D4CADF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3B3B2-78C2-4FE7-9A91-588861552B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DB653-C053-4036-8958-D25820511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50962-05DC-4EC3-817D-FCF7B45FE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6494BB-A260-4265-B297-EDCEAC94A8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B6CF70-2C55-4FD9-8353-26C56096DD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55EF89-611D-4E56-B42E-BFE58F6A3F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320BE3-5AD2-4A95-9DC5-6AC31F2A9D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473AA6-C920-4376-B8D3-6FC029F024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E77A64-0A49-4CD2-AD47-C75AC31D2B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19AABE-F618-4B6E-852D-B69321277E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D29CB0-693B-46D0-899F-4320E85B05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8EB0F-A95E-4F12-81D1-5F964E62E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CCDF2-EB83-4A4D-9B69-C53405D59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2252-6102-4F89-AD96-991B2C29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B62770-A3AF-4DD0-BAB3-B609E768D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E680B8-C8F6-430B-8DCE-7907BD34C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C39FD6-F689-419B-A541-C45536F49A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C131C1-19DA-45DA-B077-B72E3DA6F2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3E449-3235-4B7C-84AD-D343A0FF00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92E522-4B41-4B5E-AC6E-34C58120D8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2E8277-368D-4EAB-8141-75E0EE2C00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E02E6A-C7B8-4658-B26F-1080D819E8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CBAF84-FDCB-411C-8F76-03DD0FC722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AAD71-61EA-4F1E-83AD-2DC4A57C26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FB6AE-BF44-4265-8AA7-A16EE9A80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5758BF-94AA-49FC-8979-A4A7F393EB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A98332-BA06-4957-99D4-D5F1AC542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6513E-A299-458E-9F5C-95F7ECD24B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52622-0596-43B1-A5AA-CB7E53D5D0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0F7EBE-6CEE-437A-BD57-B861932971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4B04D6-E8A0-4AA8-8C7B-477BFFE2E0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5D19B8-32BB-46D5-9D77-71912FCFD5A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BF89-0B60-4C18-B927-814509A3F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171A-FEF0-42EC-A3BB-AD30D64F28CE}"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B28F-27CC-4D30-9AE6-7F01C4AA3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72F9-F4A7-482A-B477-7BBBF82105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A659-F804-4453-9ED7-D77A806E2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FD0D-C4B7-4489-A704-3CBF6B96C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FB39-4BB9-4A8F-9D24-E80D13D13B3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9A03-E09E-494B-B9AE-B79AA5C0A060}"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603360" y="907920"/>
            <a:ext cx="8040600" cy="1481400"/>
          </a:xfrm>
          <a:prstGeom prst="rect">
            <a:avLst/>
          </a:prstGeom>
          <a:ln w="0">
            <a:noFill/>
          </a:ln>
        </p:spPr>
      </p:pic>
      <p:pic>
        <p:nvPicPr>
          <p:cNvPr id="346" name="Subtitle 2" descr=""/>
          <p:cNvPicPr/>
          <p:nvPr/>
        </p:nvPicPr>
        <p:blipFill>
          <a:blip r:embed="rId2"/>
          <a:stretch/>
        </p:blipFill>
        <p:spPr>
          <a:xfrm>
            <a:off x="-695160" y="3535200"/>
            <a:ext cx="6516360" cy="19576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0720" y="262080"/>
            <a:ext cx="8242560" cy="1407960"/>
          </a:xfrm>
          <a:prstGeom prst="rect">
            <a:avLst/>
          </a:prstGeom>
          <a:ln w="0">
            <a:noFill/>
          </a:ln>
        </p:spPr>
      </p:pic>
      <p:sp>
        <p:nvSpPr>
          <p:cNvPr id="36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ince independence in 1968, the Nauru government has earned about $A100-$A120 million yearly by exporting the phosphate. Those who own land receive a lump sum prior to mining, and then royalties are earmarked for a trust fund, which is to begin paying out once mining ends between 1995 and 2000. Individuals involved do receive a financial statement, but aggregate island accounts of financial dealings do not exist. The Nauru government figures are sketchy, if not entirely secret. </a:t>
            </a:r>
            <a:endParaRPr b="0" lang="en-US" sz="2800" spc="-1" strike="noStrike">
              <a:solidFill>
                <a:srgbClr val="ffffff"/>
              </a:solidFill>
              <a:latin typeface="Century Gothic"/>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450720" y="262080"/>
            <a:ext cx="8242560" cy="1407960"/>
          </a:xfrm>
          <a:prstGeom prst="rect">
            <a:avLst/>
          </a:prstGeom>
          <a:ln w="0">
            <a:noFill/>
          </a:ln>
        </p:spPr>
      </p:pic>
      <p:sp>
        <p:nvSpPr>
          <p:cNvPr id="36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rices for phosphate rose more than 120 per cent in 2008 to around $1000 (€ 777) per ton by end of the year, which has been blamed on </a:t>
            </a:r>
            <a:r>
              <a:rPr b="0" i="1" lang="en-US" sz="3000" spc="-1" strike="noStrike">
                <a:solidFill>
                  <a:srgbClr val="ffffff"/>
                </a:solidFill>
                <a:latin typeface="Century Gothic"/>
              </a:rPr>
              <a:t>“skyrocketing”</a:t>
            </a:r>
            <a:r>
              <a:rPr b="0" lang="en-US" sz="3000" spc="-1" strike="noStrike">
                <a:solidFill>
                  <a:srgbClr val="ffffff"/>
                </a:solidFill>
                <a:latin typeface="Century Gothic"/>
              </a:rPr>
              <a:t> demand from the fertilizer industry.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450720" y="262080"/>
            <a:ext cx="8242560" cy="1407960"/>
          </a:xfrm>
          <a:prstGeom prst="rect">
            <a:avLst/>
          </a:prstGeom>
          <a:ln w="0">
            <a:noFill/>
          </a:ln>
        </p:spPr>
      </p:pic>
      <p:sp>
        <p:nvSpPr>
          <p:cNvPr id="37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phosphates mine has an estimated life of 27 year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Coal_mine_Wyoming.jpg"/>
          <p:cNvPicPr/>
          <p:nvPr/>
        </p:nvPicPr>
        <p:blipFill>
          <a:blip r:embed="rId1"/>
          <a:stretch/>
        </p:blipFill>
        <p:spPr>
          <a:xfrm>
            <a:off x="0" y="0"/>
            <a:ext cx="9144000" cy="6858000"/>
          </a:xfrm>
          <a:prstGeom prst="rect">
            <a:avLst/>
          </a:prstGeom>
          <a:ln w="0">
            <a:noFill/>
          </a:ln>
        </p:spPr>
      </p:pic>
      <p:pic>
        <p:nvPicPr>
          <p:cNvPr id="372" name="Title 1" descr=""/>
          <p:cNvPicPr/>
          <p:nvPr/>
        </p:nvPicPr>
        <p:blipFill>
          <a:blip r:embed="rId2"/>
          <a:stretch/>
        </p:blipFill>
        <p:spPr>
          <a:xfrm>
            <a:off x="450720" y="262080"/>
            <a:ext cx="8242560" cy="1407960"/>
          </a:xfrm>
          <a:prstGeom prst="rect">
            <a:avLst/>
          </a:prstGeom>
          <a:ln w="0">
            <a:noFill/>
          </a:ln>
        </p:spPr>
      </p:pic>
      <p:sp>
        <p:nvSpPr>
          <p:cNvPr id="37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698"/>
                </a:solidFill>
                <a:latin typeface="Century Gothic"/>
              </a:rPr>
              <a:t>The goal of </a:t>
            </a:r>
            <a:r>
              <a:rPr b="1" lang="en-US" sz="2800" spc="-1" strike="noStrike">
                <a:solidFill>
                  <a:srgbClr val="ff5698"/>
                </a:solidFill>
                <a:latin typeface="Century Gothic"/>
              </a:rPr>
              <a:t>coal mining</a:t>
            </a:r>
            <a:r>
              <a:rPr b="0" lang="en-US" sz="2800" spc="-1" strike="noStrike">
                <a:solidFill>
                  <a:srgbClr val="ff5698"/>
                </a:solidFill>
                <a:latin typeface="Century Gothic"/>
              </a:rPr>
              <a:t> is to economically remove coal from the ground. Coal is valued for its energy content, and since the 1880s is widely used to generate electricity. Steel and cement industries use coal as a fuel for extraction of iron from iron ore and for cement production. In the United States, United Kingdom, and South Africa, a coal mine and its structures are a "colliery". In Australia, "colliery" generally refers to an underground coal mine.</a:t>
            </a:r>
            <a:endParaRPr b="0" lang="en-US" sz="2800" spc="-1" strike="noStrike">
              <a:solidFill>
                <a:srgbClr val="ffffff"/>
              </a:solidFill>
              <a:latin typeface="Century Gothic"/>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0720" y="262080"/>
            <a:ext cx="8242560" cy="1407960"/>
          </a:xfrm>
          <a:prstGeom prst="rect">
            <a:avLst/>
          </a:prstGeom>
          <a:ln w="0">
            <a:noFill/>
          </a:ln>
        </p:spPr>
      </p:pic>
      <p:sp>
        <p:nvSpPr>
          <p:cNvPr id="37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An April index of coal prices from Barlow Jonker, an Australian firm, lists coal of similar quality to that found at Wishbone Hill at $51.15 per metric ton. Two years ago, the same index listed that coal at $24 per metric ton. But shipping prices have nearly doubled in the same time frame, going from $11.15 to $20.50 per metric ton for a shipment from South Africa to the Netherlands."</a:t>
            </a:r>
            <a:endParaRPr b="0" lang="en-US" sz="3000" spc="-1" strike="noStrike">
              <a:solidFill>
                <a:srgbClr val="ffffff"/>
              </a:solidFill>
              <a:latin typeface="Century Gothic"/>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450720" y="262080"/>
            <a:ext cx="8242560" cy="140796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market capitalization of about $11.4 billion mined 20% of the coal in the United States last year. This amounted to just more than $5.3 billion in revenue.</a:t>
            </a:r>
            <a:endParaRPr b="0" lang="en-US" sz="3000" spc="-1" strike="noStrike">
              <a:solidFill>
                <a:srgbClr val="ffffff"/>
              </a:solidFill>
              <a:latin typeface="Century Gothic"/>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450720" y="262080"/>
            <a:ext cx="8242560" cy="1407960"/>
          </a:xfrm>
          <a:prstGeom prst="rect">
            <a:avLst/>
          </a:prstGeom>
          <a:ln w="0">
            <a:noFill/>
          </a:ln>
        </p:spPr>
      </p:pic>
      <p:sp>
        <p:nvSpPr>
          <p:cNvPr id="379" name=""/>
          <p:cNvSpPr txBox="1"/>
          <p:nvPr/>
        </p:nvSpPr>
        <p:spPr>
          <a:xfrm>
            <a:off x="457200" y="1882800"/>
            <a:ext cx="8229600" cy="4572000"/>
          </a:xfrm>
          <a:prstGeom prst="rect">
            <a:avLst/>
          </a:prstGeom>
          <a:noFill/>
          <a:ln w="0">
            <a:noFill/>
          </a:ln>
        </p:spPr>
        <p:txBody>
          <a:bodyPr lIns="90000" rIns="90000" tIns="46800" bIns="46800" anchor="t">
            <a:normAutofit fontScale="99000"/>
          </a:bodyPr>
          <a:p>
            <a:pPr marL="443160" indent="-3787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Environmental and Social Impact </a:t>
            </a:r>
            <a:endParaRPr b="0" lang="en-US" sz="2100" spc="-1" strike="noStrike">
              <a:solidFill>
                <a:srgbClr val="ffffff"/>
              </a:solidFill>
              <a:latin typeface="Century Gothic"/>
            </a:endParaRPr>
          </a:p>
          <a:p>
            <a:pPr marL="443160" indent="-378720" algn="just">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Coal mining can result in a number of adverse effects on the environment. Surface mining of coal completely eliminates existing vegetation, destroys the genetic soil profile, displaces or destroys wildlife and habitat, degrades air quality, alters current land uses, and to some extent permanently changes the general topography of the area mined.</a:t>
            </a:r>
            <a:endParaRPr b="0" lang="en-US" sz="2100" spc="-1" strike="noStrike">
              <a:solidFill>
                <a:srgbClr val="ffffff"/>
              </a:solidFill>
              <a:latin typeface="Century Gothic"/>
            </a:endParaRPr>
          </a:p>
          <a:p>
            <a:pPr marL="443160" indent="-378720" algn="just">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Mine tailing dumps produce acid mine drainage which can seep into waterways and aquifers, with consequences on ecological and human health. If underground mine tunnels collapse, this can cause subsidence of land surfaces. During actual mining operations, methane, a known greenhouse gas, may be released into the air. And by the movement, storage, and redistribution of soil, the community of microorganisms and nutrient cycling processes can be disrupted.</a:t>
            </a:r>
            <a:endParaRPr b="0" lang="en-US" sz="2100" spc="-1" strike="noStrike">
              <a:solidFill>
                <a:srgbClr val="ffffff"/>
              </a:solidFill>
              <a:latin typeface="Century Gothic"/>
            </a:endParaRPr>
          </a:p>
          <a:p>
            <a:pPr marL="443160" indent="-37872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450720" y="262080"/>
            <a:ext cx="8242560" cy="1407960"/>
          </a:xfrm>
          <a:prstGeom prst="rect">
            <a:avLst/>
          </a:prstGeom>
          <a:ln w="0">
            <a:noFill/>
          </a:ln>
        </p:spPr>
      </p:pic>
      <p:sp>
        <p:nvSpPr>
          <p:cNvPr id="38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coal is more valuable in terms of market value than the manganese and the phosphates.</a:t>
            </a:r>
            <a:endParaRPr b="0" lang="en-US" sz="3000" spc="-1" strike="noStrike">
              <a:solidFill>
                <a:srgbClr val="ffffff"/>
              </a:solidFill>
              <a:latin typeface="Century Gothic"/>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450720" y="262080"/>
            <a:ext cx="8242560" cy="1407960"/>
          </a:xfrm>
          <a:prstGeom prst="rect">
            <a:avLst/>
          </a:prstGeom>
          <a:ln w="0">
            <a:noFill/>
          </a:ln>
        </p:spPr>
      </p:pic>
      <p:sp>
        <p:nvSpPr>
          <p:cNvPr id="38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http://en.wikipedia.org/wiki/Phosphat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http://en.wikipedia.org/wiki/Manganes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http://en.wikipedia.org/wiki/Coal_mining</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www.</a:t>
            </a:r>
            <a:r>
              <a:rPr b="1" lang="en-US" sz="3000" spc="-1" strike="noStrike" u="sng">
                <a:solidFill>
                  <a:srgbClr val="ffffff"/>
                </a:solidFill>
                <a:uFillTx/>
                <a:latin typeface="Century Gothic"/>
              </a:rPr>
              <a:t>mine</a:t>
            </a:r>
            <a:r>
              <a:rPr b="0" lang="en-US" sz="3000" spc="-1" strike="noStrike" u="sng">
                <a:solidFill>
                  <a:srgbClr val="ffffff"/>
                </a:solidFill>
                <a:uFillTx/>
                <a:latin typeface="Century Gothic"/>
              </a:rPr>
              <a:t>site.com/.../</a:t>
            </a:r>
            <a:r>
              <a:rPr b="1" lang="en-US" sz="3000" spc="-1" strike="noStrike" u="sng">
                <a:solidFill>
                  <a:srgbClr val="ffffff"/>
                </a:solidFill>
                <a:uFillTx/>
                <a:latin typeface="Century Gothic"/>
              </a:rPr>
              <a:t>mine</a:t>
            </a:r>
            <a:r>
              <a:rPr b="0" lang="en-US" sz="3000" spc="-1" strike="noStrike" u="sng">
                <a:solidFill>
                  <a:srgbClr val="ffffff"/>
                </a:solidFill>
                <a:uFillTx/>
                <a:latin typeface="Century Gothic"/>
              </a:rPr>
              <a:t>ws/.../american-</a:t>
            </a:r>
            <a:r>
              <a:rPr b="1" lang="en-US" sz="3000" spc="-1" strike="noStrike" u="sng">
                <a:solidFill>
                  <a:srgbClr val="ffffff"/>
                </a:solidFill>
                <a:uFillTx/>
                <a:latin typeface="Century Gothic"/>
              </a:rPr>
              <a:t>manganese</a:t>
            </a:r>
            <a:r>
              <a:rPr b="0" lang="en-US" sz="3000" spc="-1" strike="noStrike" u="sng">
                <a:solidFill>
                  <a:srgbClr val="ffffff"/>
                </a:solidFill>
                <a:uFillTx/>
                <a:latin typeface="Century Gothic"/>
              </a:rPr>
              <a:t>-looks-well-positioned-to-benefit-from-increased-</a:t>
            </a:r>
            <a:r>
              <a:rPr b="1" lang="en-US" sz="3000" spc="-1" strike="noStrike" u="sng">
                <a:solidFill>
                  <a:srgbClr val="ffffff"/>
                </a:solidFill>
                <a:uFillTx/>
                <a:latin typeface="Century Gothic"/>
              </a:rPr>
              <a:t>manganese</a:t>
            </a:r>
            <a:r>
              <a:rPr b="0" lang="en-US" sz="3000" spc="-1" strike="noStrike" u="sng">
                <a:solidFill>
                  <a:srgbClr val="ffffff"/>
                </a:solidFill>
                <a:uFillTx/>
                <a:latin typeface="Century Gothic"/>
              </a:rPr>
              <a:t>-demand-in-the-years-ahe.htm</a:t>
            </a:r>
            <a:r>
              <a:rPr b="0" i="1" lang="en-US"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11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entury Gothic"/>
            </a:endParaRPr>
          </a:p>
          <a:p>
            <a:pPr marL="447840" indent="-382680">
              <a:spcBef>
                <a:spcPts val="11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0059"/>
                </a:solidFill>
                <a:latin typeface="Century Gothic"/>
              </a:rPr>
              <a:t>Thanks For Watching</a:t>
            </a:r>
            <a:endParaRPr b="0" lang="en-US" sz="4800" spc="-1" strike="noStrike">
              <a:solidFill>
                <a:srgbClr val="ffffff"/>
              </a:solidFill>
              <a:latin typeface="Century Gothic"/>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CONOMIST- JanFlaurence A.Oblend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EOLOGIS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DUSTRIALIST-Kristoffer Kharl Banawa</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 businessman would like to increase his earnings through mining. Learning about his interest in the field, three companies immediately came up with project proposals for three different mineral reserves. Company A proposed for manganese, Company B recommended phosphates; Company envisioned a coal mining industry. However, the businessman, seeing the project to involve a huge amount of money, thought of hiring your expertise as a team MINERAL EXPERTS to help him decide where to invest.</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any A proposed for manganes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any B recommended phosphat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any envisioned a coal mining industry</a:t>
            </a:r>
            <a:endParaRPr b="0" lang="en-US" sz="3000" spc="-1" strike="noStrike">
              <a:solidFill>
                <a:srgbClr val="ffffff"/>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0" y="0"/>
            <a:ext cx="9144000" cy="6858000"/>
          </a:xfrm>
          <a:prstGeom prst="rect">
            <a:avLst/>
          </a:prstGeom>
          <a:ln w="0">
            <a:noFill/>
          </a:ln>
        </p:spPr>
      </p:pic>
      <p:pic>
        <p:nvPicPr>
          <p:cNvPr id="354" name="Title 1" descr=""/>
          <p:cNvPicPr/>
          <p:nvPr/>
        </p:nvPicPr>
        <p:blipFill>
          <a:blip r:embed="rId2"/>
          <a:stretch/>
        </p:blipFill>
        <p:spPr>
          <a:xfrm>
            <a:off x="450720" y="262080"/>
            <a:ext cx="8242560" cy="1407960"/>
          </a:xfrm>
          <a:prstGeom prst="rect">
            <a:avLst/>
          </a:prstGeom>
          <a:ln w="0">
            <a:noFill/>
          </a:ln>
        </p:spPr>
      </p:pic>
      <p:sp>
        <p:nvSpPr>
          <p:cNvPr id="355" name=""/>
          <p:cNvSpPr txBox="1"/>
          <p:nvPr/>
        </p:nvSpPr>
        <p:spPr>
          <a:xfrm>
            <a:off x="533520" y="1371600"/>
            <a:ext cx="8229600" cy="4525920"/>
          </a:xfrm>
          <a:prstGeom prst="rect">
            <a:avLst/>
          </a:prstGeom>
          <a:noFill/>
          <a:ln w="0">
            <a:noFill/>
          </a:ln>
        </p:spPr>
        <p:txBody>
          <a:bodyPr lIns="90000" rIns="90000" tIns="46800" bIns="46800" anchor="t">
            <a:normAutofit/>
          </a:bodyPr>
          <a:p>
            <a:pPr marL="447840" indent="-382680" algn="just">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ea typeface="Arial"/>
              </a:rPr>
              <a:t>Manganese</a:t>
            </a:r>
            <a:r>
              <a:rPr b="0" lang="en-US" sz="3000" spc="-1" strike="noStrike">
                <a:solidFill>
                  <a:srgbClr val="002060"/>
                </a:solidFill>
                <a:latin typeface="Arial"/>
                <a:ea typeface="Arial"/>
              </a:rPr>
              <a:t> is a chemical element, designated by the symbol </a:t>
            </a:r>
            <a:r>
              <a:rPr b="1" lang="en-US" sz="3000" spc="-1" strike="noStrike">
                <a:solidFill>
                  <a:srgbClr val="002060"/>
                </a:solidFill>
                <a:latin typeface="Arial"/>
                <a:ea typeface="Arial"/>
              </a:rPr>
              <a:t>Mn</a:t>
            </a:r>
            <a:r>
              <a:rPr b="0" lang="en-US" sz="3000" spc="-1" strike="noStrike">
                <a:solidFill>
                  <a:srgbClr val="002060"/>
                </a:solidFill>
                <a:latin typeface="Arial"/>
                <a:ea typeface="Arial"/>
              </a:rPr>
              <a:t>. It has the atomic number 25. It is found as a free element in nature (often in combination with iron), and in many minerals. As a free element, manganese is a metal with important industrial metal alloy uses, particularly in stainless steels.</a:t>
            </a:r>
            <a:endParaRPr b="0" lang="en-US" sz="3000" spc="-1" strike="noStrike">
              <a:solidFill>
                <a:srgbClr val="ffffff"/>
              </a:solidFill>
              <a:latin typeface="Century Gothic"/>
            </a:endParaRPr>
          </a:p>
          <a:p>
            <a:pPr marL="447840" indent="-3826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378000" y="146160"/>
            <a:ext cx="8242200" cy="1158840"/>
          </a:xfrm>
          <a:prstGeom prst="rect">
            <a:avLst/>
          </a:prstGeom>
          <a:ln w="0">
            <a:noFill/>
          </a:ln>
        </p:spPr>
      </p:pic>
      <p:sp>
        <p:nvSpPr>
          <p:cNvPr id="357" name=""/>
          <p:cNvSpPr txBox="1"/>
          <p:nvPr/>
        </p:nvSpPr>
        <p:spPr>
          <a:xfrm>
            <a:off x="457200" y="1143000"/>
            <a:ext cx="8229600" cy="4525920"/>
          </a:xfrm>
          <a:prstGeom prst="rect">
            <a:avLst/>
          </a:prstGeom>
          <a:noFill/>
          <a:ln w="0">
            <a:noFill/>
          </a:ln>
        </p:spPr>
        <p:txBody>
          <a:bodyPr lIns="90000" rIns="90000" tIns="46800" bIns="46800" anchor="t">
            <a:normAutofit/>
          </a:bodyPr>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382680" algn="just">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In the mid-seventies, a $70-million international joint venture succeeded in collecting multi-ton quantities of manganese nodules from the abyssal plains (18,000 feet, 5.5 km + depth) of the eastern equatorial Pacific Ocean. Significant quantities of nickel (the primary target) as well as copper and cobalt were subsequently extracted from this "ore" using both pyro and hydro methods. In the course of this 8-year project, a number of ancillary developments evolved, including the use of near-bottom towed side-scan sonar array to assay the nodule population density on the abyssal silt whilst simultaneously performing a sub-bottom profile with a derived, vertically-oriented, low-frequency acoustic beam.</a:t>
            </a:r>
            <a:endParaRPr b="0" lang="en-US" sz="2100" spc="-1" strike="noStrike">
              <a:solidFill>
                <a:srgbClr val="ffffff"/>
              </a:solidFill>
              <a:latin typeface="Century Gothic"/>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0720" y="262080"/>
            <a:ext cx="834552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ustralia is the third largest producer of manganese ore in the world, producing 2.55 Mt in 2003, 12% of global production. In 2003, Australian exports of manganese ore totaled 2.14 Mt valued at A$312 million. </a:t>
            </a:r>
            <a:endParaRPr b="0" lang="en-US" sz="3000" spc="-1" strike="noStrike">
              <a:solidFill>
                <a:srgbClr val="ffffff"/>
              </a:solidFill>
              <a:latin typeface="Century Gothic"/>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0720" y="262080"/>
            <a:ext cx="8242560" cy="140796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Naturally occurring manganese is composed of 1 stable isotope Mn. 18 radioisotopes have been characterized with the most stable being Mn with a half-life of 3.7 million years, Mn with a half-life of 312.3 days, and Mn with a half-life of 5.591 days. All of the remaining radioactive isotopes have half-lives that are less than 3 hours and the majority of these have half-lives that are less than 1 minute. This element also has 3 meta states.</a:t>
            </a:r>
            <a:endParaRPr b="0" lang="en-US" sz="2800" spc="-1" strike="noStrike">
              <a:solidFill>
                <a:srgbClr val="ffffff"/>
              </a:solidFill>
              <a:latin typeface="Century Gothic"/>
            </a:endParaRPr>
          </a:p>
          <a:p>
            <a:pPr marL="4478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
          <p:cNvPicPr/>
          <p:nvPr/>
        </p:nvPicPr>
        <p:blipFill>
          <a:blip r:embed="rId1"/>
          <a:stretch/>
        </p:blipFill>
        <p:spPr>
          <a:xfrm>
            <a:off x="0" y="-3886200"/>
            <a:ext cx="9144000" cy="14630400"/>
          </a:xfrm>
          <a:prstGeom prst="rect">
            <a:avLst/>
          </a:prstGeom>
          <a:ln w="0">
            <a:noFill/>
          </a:ln>
        </p:spPr>
      </p:pic>
      <p:pic>
        <p:nvPicPr>
          <p:cNvPr id="363" name="Title 1" descr=""/>
          <p:cNvPicPr/>
          <p:nvPr/>
        </p:nvPicPr>
        <p:blipFill>
          <a:blip r:embed="rId2"/>
          <a:stretch/>
        </p:blipFill>
        <p:spPr>
          <a:xfrm>
            <a:off x="450720" y="262080"/>
            <a:ext cx="8242560" cy="1407960"/>
          </a:xfrm>
          <a:prstGeom prst="rect">
            <a:avLst/>
          </a:prstGeom>
          <a:ln w="0">
            <a:noFill/>
          </a:ln>
        </p:spPr>
      </p:pic>
      <p:sp>
        <p:nvSpPr>
          <p:cNvPr id="36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A </a:t>
            </a:r>
            <a:r>
              <a:rPr b="1" lang="en-US" sz="3000" spc="-1" strike="noStrike">
                <a:solidFill>
                  <a:srgbClr val="ffffff"/>
                </a:solidFill>
                <a:latin typeface="Century Gothic"/>
              </a:rPr>
              <a:t>phosphate</a:t>
            </a:r>
            <a:r>
              <a:rPr b="0" lang="en-US" sz="3000" spc="-1" strike="noStrike">
                <a:solidFill>
                  <a:srgbClr val="ffffff"/>
                </a:solidFill>
                <a:latin typeface="Century Gothic"/>
              </a:rPr>
              <a:t>, an inorganic chemical, is a salt of phosphoric acid. In organic chemistry, a phosphate, or organophosphate, is an ester of phosphoric acid. Organic phosphates are important in biochemistry and biogeochemistry or ecology. Inorganic phosphates are mined to obtain phosphorus for use in agriculture and industry. </a:t>
            </a:r>
            <a:endParaRPr b="0" lang="en-US" sz="3000" spc="-1" strike="noStrike">
              <a:solidFill>
                <a:srgbClr val="ffffff"/>
              </a:solidFill>
              <a:latin typeface="Century Gothic"/>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0:57:26Z</dcterms:created>
  <dc:creator>Jan Oblenda</dc:creator>
  <dc:description/>
  <dc:language>en-US</dc:language>
  <cp:lastModifiedBy>MSU-IIT IDS</cp:lastModifiedBy>
  <dcterms:modified xsi:type="dcterms:W3CDTF">2010-07-15T14:41:52Z</dcterms:modified>
  <cp:revision>36</cp:revision>
  <dc:subject/>
  <dc:title>EARTH SCIENCE</dc:title>
</cp:coreProperties>
</file>